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08800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361584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808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808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92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760" y="361584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92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808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9400" y="114300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76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808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9400" y="3615840"/>
            <a:ext cx="27723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61584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143000"/>
            <a:ext cx="420156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3615840"/>
            <a:ext cx="861048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Click to edit the outline text format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spcBef>
                <a:spcPts val="21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Second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2" marL="1143000" indent="-228600">
              <a:spcBef>
                <a:spcPts val="2100"/>
              </a:spcBef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Third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3" marL="1600200" indent="-228600">
              <a:spcBef>
                <a:spcPts val="21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Fourth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4" marL="2057400" indent="-228600">
              <a:spcBef>
                <a:spcPts val="2100"/>
              </a:spcBef>
              <a:buClr>
                <a:srgbClr val="263582"/>
              </a:buClr>
              <a:buFont typeface="ZapfHumnst BT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Fifth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5" marL="2057400" indent="-228600">
              <a:spcBef>
                <a:spcPts val="2100"/>
              </a:spcBef>
              <a:buClr>
                <a:srgbClr val="000000"/>
              </a:buClr>
              <a:buFont typeface="ZapfHumnst BT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Sixth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6" marL="2057400" indent="-228600">
              <a:spcBef>
                <a:spcPts val="2100"/>
              </a:spcBef>
              <a:buClr>
                <a:srgbClr val="000000"/>
              </a:buClr>
              <a:buFont typeface="ZapfHumnst BT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Seventh Outline Leve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2" name=""/>
          <p:cNvSpPr/>
          <p:nvPr/>
        </p:nvSpPr>
        <p:spPr>
          <a:xfrm>
            <a:off x="0" y="3611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-para-hoja-A4" descr=""/>
          <p:cNvPicPr/>
          <p:nvPr/>
        </p:nvPicPr>
        <p:blipFill>
          <a:blip r:embed="rId2"/>
          <a:stretch/>
        </p:blipFill>
        <p:spPr>
          <a:xfrm>
            <a:off x="6877080" y="5977080"/>
            <a:ext cx="193032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344000" cy="2950920"/>
          </a:xfrm>
          <a:prstGeom prst="rect">
            <a:avLst/>
          </a:prstGeom>
          <a:solidFill>
            <a:srgbClr val="263582"/>
          </a:solidFill>
          <a:ln w="12600">
            <a:solidFill>
              <a:srgbClr val="26358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ZapfHumnst BT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/>
          <p:nvPr/>
        </p:nvCxnSpPr>
        <p:spPr>
          <a:xfrm flipH="1" rot="16200000">
            <a:off x="5074920" y="2618280"/>
            <a:ext cx="437400" cy="2056680"/>
          </a:xfrm>
          <a:prstGeom prst="curvedConnector5">
            <a:avLst>
              <a:gd name="adj1" fmla="val -52306"/>
              <a:gd name="adj2" fmla="val 55549"/>
              <a:gd name="adj3" fmla="val -52306"/>
            </a:avLst>
          </a:prstGeom>
          <a:ln w="0">
            <a:noFill/>
          </a:ln>
        </p:spPr>
      </p:cxnSp>
      <p:sp>
        <p:nvSpPr>
          <p:cNvPr id="4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5300640"/>
            <a:ext cx="3097080" cy="13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-para-hoja-A4" descr=""/>
          <p:cNvPicPr/>
          <p:nvPr/>
        </p:nvPicPr>
        <p:blipFill>
          <a:blip r:embed="rId2"/>
          <a:stretch/>
        </p:blipFill>
        <p:spPr>
          <a:xfrm>
            <a:off x="6084720" y="5589720"/>
            <a:ext cx="2219400" cy="77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08200" y="2637000"/>
            <a:ext cx="397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263582"/>
                </a:solidFill>
                <a:latin typeface="ZapfHumnst BT"/>
              </a:rPr>
              <a:t>Click to edit the outline text format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1" marL="457200" indent="0" algn="ctr"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263582"/>
                </a:solidFill>
                <a:latin typeface="ZapfHumnst BT"/>
              </a:rPr>
              <a:t>Second Outline Level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2" marL="914400" algn="ctr">
              <a:spcBef>
                <a:spcPts val="1749"/>
              </a:spcBef>
              <a:buClr>
                <a:srgbClr val="263582"/>
              </a:buClr>
              <a:buFont typeface="ZapfHumnst BT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Third Outline Level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3" marL="1371600" algn="ctr">
              <a:spcBef>
                <a:spcPts val="1576"/>
              </a:spcBef>
              <a:buClr>
                <a:srgbClr val="263582"/>
              </a:buClr>
              <a:buFont typeface="ZapfHumnst BT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Fourth Outline Level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4" marL="1828800" algn="ctr">
              <a:spcBef>
                <a:spcPts val="1400"/>
              </a:spcBef>
              <a:buClr>
                <a:srgbClr val="263582"/>
              </a:buClr>
              <a:buFont typeface="ZapfHumnst BT"/>
              <a:buChar char="»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Fifth Outline Level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ZapfHumn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Sixth Outline Level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ZapfHumn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Seventh Outline Level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269120" cy="2735280"/>
          </a:xfrm>
          <a:prstGeom prst="rect">
            <a:avLst/>
          </a:prstGeom>
          <a:solidFill>
            <a:srgbClr val="263582"/>
          </a:solidFill>
          <a:ln w="12600">
            <a:solidFill>
              <a:srgbClr val="26358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ZapfHumnst BT"/>
              </a:rPr>
              <a:t>Fideicomiso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ZapfHumnst BT"/>
              </a:rPr>
              <a:t>Conceptos fundamentales</a:t>
            </a:r>
            <a:br>
              <a:rPr sz="3200"/>
            </a:br>
            <a:br>
              <a:rPr sz="3200"/>
            </a:br>
            <a:r>
              <a:rPr b="1" i="1" lang="es-ES" sz="2000" spc="-1" strike="noStrike">
                <a:solidFill>
                  <a:srgbClr val="ffffff"/>
                </a:solidFill>
                <a:latin typeface="ZapfHumnst BT"/>
              </a:rPr>
              <a:t>Septiembre de 2012</a:t>
            </a:r>
            <a:br>
              <a:rPr sz="2000"/>
            </a:br>
            <a:br>
              <a:rPr sz="2000"/>
            </a:br>
            <a:r>
              <a:rPr b="1" i="1" lang="es-ES" sz="2400" spc="-1" strike="noStrike">
                <a:solidFill>
                  <a:srgbClr val="ffffff"/>
                </a:solidFill>
                <a:latin typeface="ZapfHumnst BT"/>
              </a:rPr>
              <a:t>Nicolás Malumián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Securitización de Créditos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42289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ecuritización de Créditos mediante un Fideicomiso Financiero (estructura tradicional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4" marL="2057400" indent="0">
              <a:spcBef>
                <a:spcPts val="1225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1400" spc="-1" strike="noStrike">
              <a:solidFill>
                <a:srgbClr val="263582"/>
              </a:solidFill>
              <a:latin typeface="ZapfHumnst BT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2762280"/>
            <a:ext cx="1800" cy="10666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809880"/>
            <a:ext cx="9144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34120" y="4038480"/>
            <a:ext cx="9144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920" y="4057560"/>
            <a:ext cx="129528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2760" y="3828960"/>
            <a:ext cx="125712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552840"/>
            <a:ext cx="1430280" cy="689040"/>
          </a:xfrm>
          <a:prstGeom prst="rect">
            <a:avLst/>
          </a:prstGeom>
          <a:solidFill>
            <a:srgbClr val="ccccff"/>
          </a:solidFill>
          <a:ln w="25560">
            <a:solidFill>
              <a:srgbClr val="263582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9480" y="3565440"/>
            <a:ext cx="1430280" cy="687600"/>
          </a:xfrm>
          <a:prstGeom prst="rect">
            <a:avLst/>
          </a:prstGeom>
          <a:solidFill>
            <a:srgbClr val="ccccff"/>
          </a:solidFill>
          <a:ln w="25560">
            <a:solidFill>
              <a:srgbClr val="263582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64280" y="3552840"/>
            <a:ext cx="1428840" cy="689040"/>
          </a:xfrm>
          <a:prstGeom prst="rect">
            <a:avLst/>
          </a:prstGeom>
          <a:solidFill>
            <a:srgbClr val="ccccff"/>
          </a:solidFill>
          <a:ln w="25560">
            <a:solidFill>
              <a:srgbClr val="263582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1960" y="2197080"/>
            <a:ext cx="1428840" cy="687240"/>
          </a:xfrm>
          <a:prstGeom prst="rect">
            <a:avLst/>
          </a:prstGeom>
          <a:solidFill>
            <a:srgbClr val="ccccff"/>
          </a:solidFill>
          <a:ln w="25560">
            <a:solidFill>
              <a:srgbClr val="263582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9960" y="4494240"/>
            <a:ext cx="1404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Compra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o certificado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articip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8080" y="2232000"/>
            <a:ext cx="208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osee la propiedad fiduc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de los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37120" y="24462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30640" y="3840120"/>
            <a:ext cx="87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6240" y="3711600"/>
            <a:ext cx="971640" cy="365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6520" y="3692520"/>
            <a:ext cx="120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INVERS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(BENEFICIARI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33280" y="4518000"/>
            <a:ext cx="174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Transmite la propi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fiduciaria de los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8760" y="4443480"/>
            <a:ext cx="151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atrimonio sepa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(crédit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2240" y="41673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ZapfHumnst BT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9840" y="4292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ZapfHumnst BT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4520" y="350532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59400" y="3554280"/>
            <a:ext cx="59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Fideicomisos Financieros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553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Títulos Fiduciarios: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Certificado de Participación en la propiedad fiduciaria: Sólo los puede emitir el fiduciari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Títulos de deuda garantizados con los bienes fideicomitidos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Emitidos por el fiduciario o por terceros (el fisco limitó la exención a los emitidos por el fiduciario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Pueden emitirse ambos o sólo una clase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Puede subordinarse unos a otros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eniors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ubordinados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Project Finance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553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Organización de un nuevo emprendimiento productivo, o la ampliación de uno existente, que generará un flujo de fondos. 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Este proyecto se financia a varios niveles, que se dividen en tres clases básicas: 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(i) aportes de capital (equity), de alto riesgo y posible alta rentabilidad; 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(ii) deuda subordinada (mezzanine financing), de riesgo y rentabilidad posible media; y 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(iii) deuda senior o privilegiada (senior debt), de menor riesgo pero menor rentabilidad estipulada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La combinación final entre distintas clases de títulos de deuda y/o certificados de participación permite: 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(i) la creación de títulos "a medida" posibilitando una mejor colocación de los títulos a partir del diseño de la salida de fondos generada por el fideicomiso, y </a:t>
            </a: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	</a:t>
            </a: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	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600" spc="-1" strike="noStrike">
                <a:solidFill>
                  <a:srgbClr val="263582"/>
                </a:solidFill>
                <a:latin typeface="ZapfHumnst BT"/>
              </a:rPr>
              <a:t>(ii) la financiación a "tres niveles" que requiere el financiamiento del proyecto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269120" cy="2735280"/>
          </a:xfrm>
          <a:prstGeom prst="rect">
            <a:avLst/>
          </a:prstGeom>
          <a:solidFill>
            <a:srgbClr val="263582"/>
          </a:solidFill>
          <a:ln w="12600">
            <a:solidFill>
              <a:srgbClr val="26358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ZapfHumnst BT"/>
              </a:rPr>
              <a:t>Fideicomisos Ordinarios como vehículos de negocios</a:t>
            </a:r>
            <a:endParaRPr b="1" i="1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Esquema base de un fideicomiso de construcción con fideicomitentes-beneficiarios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0" name=""/>
          <p:cNvSpPr/>
          <p:nvPr/>
        </p:nvSpPr>
        <p:spPr>
          <a:xfrm>
            <a:off x="4137120" y="2133720"/>
            <a:ext cx="1440" cy="10666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5680" y="3409920"/>
            <a:ext cx="1295640" cy="0"/>
          </a:xfrm>
          <a:prstGeom prst="line">
            <a:avLst/>
          </a:prstGeom>
          <a:ln w="12600">
            <a:solidFill>
              <a:srgbClr val="26358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3840" y="3200400"/>
            <a:ext cx="125748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2924280"/>
            <a:ext cx="1430640" cy="6890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24280"/>
            <a:ext cx="1631880" cy="687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41880" y="2952720"/>
            <a:ext cx="1428840" cy="6890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1320" y="1581120"/>
            <a:ext cx="1428480" cy="687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59280" y="3714840"/>
            <a:ext cx="244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Es el encargado de llevar ade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el proyecto del 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82320" y="1123920"/>
            <a:ext cx="208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osee la propiedad fiduc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de los bi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78200" y="181764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960" y="3068640"/>
            <a:ext cx="1375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TENTES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7320" y="3083040"/>
            <a:ext cx="971640" cy="18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70480" y="3181320"/>
            <a:ext cx="99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OPE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7320" y="3889440"/>
            <a:ext cx="1957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Transmite la propi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fiduciaria de ciertos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y recibe los beneficios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37960" y="3790800"/>
            <a:ext cx="151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atrimonio sepa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80120" y="4476600"/>
            <a:ext cx="1430280" cy="6890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09160" y="4629240"/>
            <a:ext cx="687960" cy="3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AUD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5200" y="3181320"/>
            <a:ext cx="106668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18520" y="5315040"/>
            <a:ext cx="29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Audita el correcto desarrollo del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3638520"/>
            <a:ext cx="990360" cy="8380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46600" y="2038320"/>
            <a:ext cx="1600200" cy="8380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24000" y="1276200"/>
            <a:ext cx="1895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ZapfHumnst BT"/>
              </a:rPr>
              <a:t>Prestadores de Servic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Comercializ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royect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Fideicomisos de construcción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7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Fideicomitentes de: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40000"/>
              </a:lnSpc>
              <a:spcBef>
                <a:spcPts val="17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terreno, 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40000"/>
              </a:lnSpc>
              <a:spcBef>
                <a:spcPts val="17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efectivo, 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40000"/>
              </a:lnSpc>
              <a:spcBef>
                <a:spcPts val="17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planos (proyecto aprobado), servicios, etc.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Los beneficiarios pueden serlo en forma proporcional al valor de los bienes aportados o no (vs. restricciones en materia de aportes societarios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En un primer momento se estructuraba al fideicomiso como un negocio de venta a terceros en el cual los inversores recibían un porcentaje de la utilidad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s-ES_tradnl" sz="2000" spc="-1" strike="noStrike">
                <a:solidFill>
                  <a:srgbClr val="263582"/>
                </a:solidFill>
                <a:latin typeface="ZapfHumnst BT"/>
              </a:rPr>
              <a:t>Actualmente lo habitual es tener derecho a una unidad (departamento o lote de un club de campo) y poder transmitir ese derecho durante la vida del fideicomiso (fideicomiso al costo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Fideicomisos de construcción (cont.)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En general no se permite el aumento o disminución del número de inversores luego del plazo de integración original: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2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No se pueden retirar pues el fideicomiso no tendría liquidez para afrontar los rescates.</a:t>
            </a:r>
            <a:endParaRPr b="1" i="1" lang="en-US" sz="14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2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No pueden ingresar pues se generaría un problema de valuación de los nuevos aportes (no podrían ser proporcionales a los anteriores por el menor riesgo).</a:t>
            </a:r>
            <a:endParaRPr b="1" i="1" lang="en-US" sz="14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Existen casos más sofisticados en los cuales se prevén dos o más clases de fiduciarios, por ejemplo: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2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Clase A: Hace su aporte total al inicio para la compra del terreno e inicio de obra,</a:t>
            </a:r>
            <a:endParaRPr b="1" i="1" lang="en-US" sz="14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2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Clase B: Hace su aporte en cuotas a lo largo de la vida del fideicomiso.</a:t>
            </a:r>
            <a:endParaRPr b="1" i="1" lang="en-US" sz="14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El fideicomiso se crea por el monto necesario para la construcción del inmueble, pero solicita mayores aportes a los fideicomitentes en el caso de aumento de los costos (por inflación o por otros motivos)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Fideicomisos de construcción (cont.)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El fideicomiso dura el tiempo necesario para la construcción y venta de los inmuebles a construirse (departamento, lotes de clubes de campo, lotes de un parque industrial, etc.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Al finalizar el fideicomiso se asignan las unidades a los fideicomitentes-beneficiarios según lo acordado originalmente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2000" spc="-1" strike="noStrike">
                <a:solidFill>
                  <a:srgbClr val="263582"/>
                </a:solidFill>
                <a:latin typeface="ZapfHumnst BT"/>
              </a:rPr>
              <a:t>El inmueble pasa a ser administrado por los propietarios quienes le darán la terminación final de obra al constructor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ZapfHumnst BT"/>
              </a:rPr>
              <a:t>Fideicomisos de construcción (cont.)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20000"/>
              </a:lnSpc>
              <a:spcBef>
                <a:spcPts val="1925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2200" spc="-1" strike="noStrike">
                <a:solidFill>
                  <a:srgbClr val="263582"/>
                </a:solidFill>
                <a:latin typeface="ZapfHumnst BT"/>
              </a:rPr>
              <a:t>Se puede pensar en diversos organismos de control y/o gestión: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20720" indent="-277200">
              <a:lnSpc>
                <a:spcPct val="120000"/>
              </a:lnSpc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263582"/>
                </a:solidFill>
                <a:latin typeface="ZapfHumnst BT"/>
              </a:rPr>
              <a:t>Comité de gestión: Integrado con los principales inversores para decidir ciertos casos difíciles sin recurrir a la “asamblea de inversores”.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20720" indent="-277200">
              <a:lnSpc>
                <a:spcPct val="120000"/>
              </a:lnSpc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263582"/>
                </a:solidFill>
                <a:latin typeface="ZapfHumnst BT"/>
              </a:rPr>
              <a:t>Auditor Técnico: Debe auditar la calidad de la construcción y avalar los certificados de avance de obra.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20720" indent="-277200">
              <a:lnSpc>
                <a:spcPct val="120000"/>
              </a:lnSpc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263582"/>
                </a:solidFill>
                <a:latin typeface="ZapfHumnst BT"/>
              </a:rPr>
              <a:t>Asamblea de Inversores: Es la reunión, bajo ciertas reglas establecidas en el contrato, de la totalidad de los inversores para decidir aspectos fundamentales. 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Fideicomiso Agrícola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81" name=""/>
          <p:cNvSpPr/>
          <p:nvPr/>
        </p:nvSpPr>
        <p:spPr>
          <a:xfrm>
            <a:off x="4249800" y="2468520"/>
            <a:ext cx="1440" cy="10666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745080"/>
            <a:ext cx="1295640" cy="0"/>
          </a:xfrm>
          <a:prstGeom prst="line">
            <a:avLst/>
          </a:prstGeom>
          <a:ln w="12600">
            <a:solidFill>
              <a:srgbClr val="26358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06520" y="3535200"/>
            <a:ext cx="125748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05040" y="3259080"/>
            <a:ext cx="1430640" cy="6890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" y="3211560"/>
            <a:ext cx="1430280" cy="687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54560" y="3287880"/>
            <a:ext cx="1428840" cy="688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916280"/>
            <a:ext cx="1428840" cy="687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1960" y="4049640"/>
            <a:ext cx="244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Es el encargado de llevar ade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el proyecto del 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95000" y="1459080"/>
            <a:ext cx="208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osee la propiedad fiduc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de los bi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90880" y="21528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17720" y="3363840"/>
            <a:ext cx="1104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NT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70360" y="3417840"/>
            <a:ext cx="971640" cy="18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83160" y="3516480"/>
            <a:ext cx="99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OPE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224240"/>
            <a:ext cx="1957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Transmite la propi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fiduciaria de ciertos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y recibe los beneficios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50640" y="4125960"/>
            <a:ext cx="151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atrimonio sepa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2800" y="4811760"/>
            <a:ext cx="1430280" cy="6890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1840" y="4964040"/>
            <a:ext cx="687960" cy="3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AUD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87880" y="3516480"/>
            <a:ext cx="106668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31200" y="5649840"/>
            <a:ext cx="29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Audita el correcto desarrollo del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07000" y="3973680"/>
            <a:ext cx="990360" cy="8380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59280" y="2373480"/>
            <a:ext cx="1600200" cy="8380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6680" y="1611360"/>
            <a:ext cx="1895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ZapfHumnst BT"/>
              </a:rPr>
              <a:t>Prestadores de Servic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Siem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Fumig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3582"/>
              </a:buClr>
              <a:buFont typeface="ZapfHumnst B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Cos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Marco Regulatorio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263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27000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Ley 24.441 (Publicada el 16/01/95) 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1163520" indent="-260280">
              <a:spcBef>
                <a:spcPts val="1500"/>
              </a:spcBef>
              <a:buClr>
                <a:srgbClr val="263582"/>
              </a:buClr>
              <a:buFont typeface="ZapfHumnst BT"/>
              <a:buChar char="–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Con anterioridad sólo existía el art. 2662 del Código Civil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1163520" indent="-260280">
              <a:spcBef>
                <a:spcPts val="1500"/>
              </a:spcBef>
              <a:buClr>
                <a:srgbClr val="263582"/>
              </a:buClr>
              <a:buFont typeface="ZapfHumnst BT"/>
              <a:buChar char="–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El proyecto de nuevo Código Civil lo prevé con un régimen similar al actual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71520" indent="-27000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El Decreto Reglamentario del Impuesto a las Ganancias incorporó parte del Decreto 780/95 (B.O. 27/11/95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71520" indent="-27000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Normas de la CNV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71520" indent="-27000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Comunicaciones del BCRA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71520" indent="-27000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163520"/>
                <a:tab algn="l" pos="485784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Normas de la UIF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Fideicomiso Agrícola 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Generalmente no se permite el ingreso de nuevos fideicomitentes-beneficiarios ni el retiro de los fideicomitentes una vez finalizado el plazo de integración original de la campaña (fideicomiso de granos):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No se pueden retirar en medio de la campaña pues el fideicomiso no tendría liquidez para afrontar los rescates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No pueden ingresar pues se generaría un problema de aplicación de los fondos nuevos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El fideicomiso se crea por el monto necesario para una o varias campañas, pero se debe prever la posibilidad de su endeudamiento en el caso de aumento de los costos estimados.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600" spc="-1" strike="noStrike">
                <a:solidFill>
                  <a:srgbClr val="263582"/>
                </a:solidFill>
                <a:latin typeface="ZapfHumnst BT"/>
              </a:rPr>
              <a:t>En el caso de cultivos plurianuales la regla es la misma pero por varios años en vez de meses</a:t>
            </a:r>
            <a:endParaRPr b="1" i="1" lang="en-US" sz="16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ZapfHumnst BT"/>
              </a:rPr>
              <a:t>Fideicomisos Agrícola</a:t>
            </a:r>
            <a:endParaRPr b="1" i="1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576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El fideicomiso dura el tiempo necesario para el cumplimiento de un cierto número de campaña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576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Se puede contemplar un plazo máximo luego del cual se debe llevar adelante un mecanismos de “liquidación forzada del fideicomiso” o un fideicomiso por el plazo máximo legal que se renueve sin límite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576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La producción de commodities permite que los mismos sean vendidos al finalizar el plazo del fideicomiso o del período de pago de utilidade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576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En el caso de producción de cultivos “no commodities” se deben considerar restricciones a la liquidez por dificultades de venta de los mismo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Fideicomiso ganadero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Los fiduciantes transmiten fondos o insumos (hacienda). 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Los insumos son valuados por el fiduciario a los fines de determinar el porcentaje que le corresponde a cada beneficiario.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Se debe determinar la duración del mismo en base a las características del negocio ganadero (cría, engorde, etc.).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s-ES_tradnl" sz="2000" spc="-1" strike="noStrike">
                <a:solidFill>
                  <a:srgbClr val="263582"/>
                </a:solidFill>
                <a:latin typeface="ZapfHumnst BT"/>
              </a:rPr>
              <a:t>Deben existir mecanismos de valuación de la hacienda que permitan la entrada y salida de inversores ponderando la ganancia obtenida por el fideicomiso.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Novedades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676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263582"/>
                </a:solidFill>
                <a:latin typeface="ZapfHumnst BT"/>
              </a:rPr>
              <a:t>La UIF dictó la Resolución 140/2012 aplicable a los fiduciarios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90000"/>
              </a:lnSpc>
              <a:spcBef>
                <a:spcPts val="165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263582"/>
                </a:solidFill>
                <a:latin typeface="ZapfHumnst BT"/>
              </a:rPr>
              <a:t>En la práctica, dada la necesidad de contar con una cuenta bancaria se aplicaba la Resolución 121/2011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263582"/>
                </a:solidFill>
                <a:latin typeface="ZapfHumnst BT"/>
              </a:rPr>
              <a:t>Régimen informativo sobre fideicomisos de la RG 3312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90000"/>
              </a:lnSpc>
              <a:spcBef>
                <a:spcPts val="165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263582"/>
                </a:solidFill>
                <a:latin typeface="ZapfHumnst BT"/>
              </a:rPr>
              <a:t>Fideicomisos locales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90000"/>
              </a:lnSpc>
              <a:spcBef>
                <a:spcPts val="165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263582"/>
                </a:solidFill>
                <a:latin typeface="ZapfHumnst BT"/>
              </a:rPr>
              <a:t>Trusts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263582"/>
                </a:solidFill>
                <a:latin typeface="ZapfHumnst BT"/>
              </a:rPr>
              <a:t>Nuevo Código Civil</a:t>
            </a: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90000"/>
              </a:lnSpc>
              <a:spcBef>
                <a:spcPts val="165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263582"/>
                </a:solidFill>
                <a:latin typeface="ZapfHumnst BT"/>
              </a:rPr>
              <a:t>Incorpora al fideicomiso en garantía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13160" indent="-274320">
              <a:lnSpc>
                <a:spcPct val="90000"/>
              </a:lnSpc>
              <a:spcBef>
                <a:spcPts val="1650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263582"/>
                </a:solidFill>
                <a:latin typeface="ZapfHumnst BT"/>
              </a:rPr>
              <a:t>El fideicomiso pasaría a ser un sujeto del concurso o quiebra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marL="329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4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Esquema Base de un Fideicomiso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9" name=""/>
          <p:cNvSpPr/>
          <p:nvPr/>
        </p:nvSpPr>
        <p:spPr>
          <a:xfrm>
            <a:off x="4137120" y="1990800"/>
            <a:ext cx="1440" cy="1066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98880" y="3038400"/>
            <a:ext cx="914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93840" y="3057480"/>
            <a:ext cx="12574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2781360"/>
            <a:ext cx="1430640" cy="689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0560" y="2793960"/>
            <a:ext cx="1430280" cy="68760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781360"/>
            <a:ext cx="1428840" cy="689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43400" y="1425600"/>
            <a:ext cx="1428480" cy="6872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81960" y="3722760"/>
            <a:ext cx="250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Recibe el beneficio de la propi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79520" y="1460520"/>
            <a:ext cx="208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osee la propiedad fiduc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de los bi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78200" y="167472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3120" y="2962440"/>
            <a:ext cx="87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UC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57320" y="2940120"/>
            <a:ext cx="971640" cy="18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85000" y="2997360"/>
            <a:ext cx="110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3640" y="3746520"/>
            <a:ext cx="167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Transmite la propie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fiduciaria de los bi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9840" y="3672000"/>
            <a:ext cx="151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Patrimonio sepa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0120" y="4334040"/>
            <a:ext cx="1430280" cy="68868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6080" y="4562640"/>
            <a:ext cx="1346400" cy="18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 </a:t>
            </a:r>
            <a:r>
              <a:rPr b="1" i="1" lang="en-US" sz="1200" spc="-1" strike="noStrike">
                <a:solidFill>
                  <a:srgbClr val="263582"/>
                </a:solidFill>
                <a:latin typeface="ZapfHumnst BT"/>
              </a:rPr>
              <a:t>FIDEICOMIS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5200" y="3343320"/>
            <a:ext cx="533520" cy="9144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49120" y="5172120"/>
            <a:ext cx="27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ZapfHumnst BT"/>
              </a:rPr>
              <a:t>Recibe el bien al finalizar el fideicom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Partes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877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905120"/>
                <a:tab algn="l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duciante: Transmite la propiedad fiduciaria y encomienda el encargo fiduciari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905120"/>
                <a:tab algn="l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duciario: Ejerce la propiedad  fiduciaria y cumple el encargo fiduciari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905120"/>
                <a:tab algn="l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Beneficiario: Tiene el derecho a los beneficios que emerjan del bien fideicomitid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spcBef>
                <a:spcPts val="1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1905120"/>
                <a:tab algn="l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deicomisario: Recibe el bien al finalizar el fideicomis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Fideicomiso (Arts. 15 y 16)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760" y="1143000"/>
            <a:ext cx="86263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e crea un patrimonio de afectación que NO puede ser agredido por los acreedores del: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263582"/>
                </a:solidFill>
                <a:latin typeface="ZapfHumnst BT"/>
              </a:rPr>
              <a:t>fiduciante,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263582"/>
                </a:solidFill>
                <a:latin typeface="ZapfHumnst BT"/>
              </a:rPr>
              <a:t>fiduciario,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263582"/>
                </a:solidFill>
                <a:latin typeface="ZapfHumnst BT"/>
              </a:rPr>
              <a:t>beneficiario,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spcBef>
                <a:spcPts val="1925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263582"/>
                </a:solidFill>
                <a:latin typeface="ZapfHumnst BT"/>
              </a:rPr>
              <a:t>fideicomisario.</a:t>
            </a:r>
            <a:endParaRPr b="1" i="1" lang="en-US" sz="22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e rompe con el principio del patrimonio únic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Clases de Fideicomisos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553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La Ley 24.441 distingue a dos tipos de fideicomisos: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263582"/>
              </a:buClr>
              <a:buFont typeface="ZapfHumnst BT"/>
              <a:buChar char="–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nancieros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263582"/>
              </a:buClr>
              <a:buFont typeface="ZapfHumnst BT"/>
              <a:buChar char="–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ordinarios (no financieros)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deicomiso Financiero es el fideicomiso ordinario en el cual: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8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–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Beneficiarios: son tenedores de títulos representativos de sus derechos en el fideicomis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8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–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Fiduciario: es un fiduciario financiero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2" marL="1143000" indent="-228600">
              <a:lnSpc>
                <a:spcPct val="8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•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Entidad financiera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lvl="2" marL="1143000" indent="-228600">
              <a:lnSpc>
                <a:spcPct val="80000"/>
              </a:lnSpc>
              <a:spcBef>
                <a:spcPts val="2500"/>
              </a:spcBef>
              <a:buClr>
                <a:srgbClr val="263582"/>
              </a:buClr>
              <a:buFont typeface="ZapfHumnst BT"/>
              <a:buChar char="•"/>
              <a:tabLst>
                <a:tab algn="l" pos="2762280"/>
                <a:tab algn="l" pos="3238560"/>
                <a:tab algn="l" pos="4286160"/>
                <a:tab algn="l" pos="5143680"/>
                <a:tab algn="l" pos="54291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Sociedad autorizada por la CNV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8288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89000"/>
            <a:ext cx="6985080" cy="20437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ZapfHumnst BT"/>
              </a:rPr>
              <a:t>Securitización utilizando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ZapfHumnst BT"/>
              </a:rPr>
              <a:t>Fideicomiso Financi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Securitización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4819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Es la estructuración de una operación, 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que “transforma” activos ilíquidos en valores negociables (activos líquidos),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con la finalidad de colocarlos en un mercado de capitales,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263582"/>
                </a:solidFill>
                <a:latin typeface="ZapfHumnst BT"/>
              </a:rPr>
              <a:t>utilizando para su repago solamente el flujo de fondos provenientes de los activos aislados.</a:t>
            </a: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txBody>
          <a:bodyPr lIns="306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ZapfHumnst BT"/>
              </a:rPr>
              <a:t>Securitización</a:t>
            </a:r>
            <a:endParaRPr b="1" i="1" lang="en-US" sz="24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400" y="1143000"/>
            <a:ext cx="8553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Bienes que se pueden securitizar: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réditos hipotecario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réditos prendario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réditos personale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upones de tarjetas de crédito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obros de exportacione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obros de peaje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Alquilere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Font typeface="ZapfHumnst B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ontratos de leasing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263582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263582"/>
                </a:solidFill>
                <a:latin typeface="ZapfHumnst BT"/>
              </a:rPr>
              <a:t>Cualquier derecho presente o futuro a un flujo de fondos</a:t>
            </a:r>
            <a:endParaRPr b="1" i="1" lang="en-US" sz="1800" spc="-1" strike="noStrike">
              <a:solidFill>
                <a:srgbClr val="263582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5T16:34:04Z</dcterms:created>
  <dc:creator/>
  <dc:description/>
  <cp:keywords/>
  <dc:language>en-US</dc:language>
  <cp:lastModifiedBy>MARTHA</cp:lastModifiedBy>
  <cp:lastPrinted>2000-09-05T21:47:43Z</cp:lastPrinted>
  <dcterms:modified xsi:type="dcterms:W3CDTF">2012-09-19T16:31:48Z</dcterms:modified>
  <cp:revision>236</cp:revision>
  <dc:subject/>
  <dc:title>Sistema Tributario Argentino</dc:title>
</cp:coreProperties>
</file>